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9E1-0BB3-43A8-B530-FCAFE151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3AC-9424-41E6-80C9-AC830C63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064A-33B3-4C58-BAAE-3D829B4E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6AF-4AD5-42A2-B636-5898BBA9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584D-AC2D-4B3B-AF7D-FB4A0696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6D17-9CD2-43C0-B4B3-57B12623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5282-42ED-46BA-96C7-8A9345B9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E96D-B29C-4581-981F-EBE01B90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9096-2089-4A11-B91F-B4DAF430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4BE6-3E8A-4230-BF40-3D258C96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5194-60E7-4AB9-955D-5E38AB83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C62-ED13-439A-ABC3-EEAC4706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E44C-38C8-4FD2-91A8-6446465C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FCBA-F206-4C3E-97AC-97302121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61CB-47F9-41F9-9818-F41E3BC5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F8F2-F0A5-48DB-9027-FEA767F4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E004-C22B-4A96-BAA6-C34E21BD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CA99E-2517-49A5-BA4F-0637A02D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360E5-D475-409D-BEE2-27D96161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932F7-7EDD-4298-AB5B-3A058569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4757D-B22D-469F-85E2-8A105B67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67BEC-53AA-44AE-95D0-4CA50A10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717-6D9B-4C8C-B7BA-573675D8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80887-49DD-4520-B75E-B749D919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226FD-B61D-49E6-8888-E42E2AFD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0A8BE-80F0-4E09-9FBB-1961C869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8CA8E-713B-46D1-B421-31263278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E403B-68EA-4BA2-AA7B-6DA181E7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BFEF7-FC38-4D98-A84D-D32DBCC0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2AB3E-41BD-4E8F-8791-B67E146C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B8D-6038-4356-B289-4943E0BA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B38C-B00E-41C4-B13C-0EA723A1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BE0-1959-408D-8AEF-BF63271E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8EF2-F6BE-49D0-BE8C-B4642CBE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9C36-BB67-4B53-AF82-A0097B64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0AC-EE5A-4E9E-8350-3D297867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2605-2605-43BC-98EA-7B3E6C69A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6E72-CA7A-41B2-95EE-1DFABDCCB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6500-266D-48EA-A087-9549BCCBA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image" Target="../media/image8.pct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I Heard a Fly Buzz – When I Died –”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ily Dickin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 Heard a Fly Buzz – When I Died –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aker on brink of dea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ween the light – and me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y =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es in last two lin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n the Windows failed – and t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could not see to see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 Heard a Fly Buzz – When I Died –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yes around – had wrung them dry –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thered people cry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g = G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willed my Keepsak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a wi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verall Messag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s what happens at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th like a f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th still present despite her w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then the Windows failed – and then/ I could not see to see –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248520" cy="6202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 rot="3223200">
            <a:off x="2420640" y="779400"/>
            <a:ext cx="112392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9 L 0.125 0 L 0.177 0 L 0.177 0.06927 L 0.213 0.11856 L 0.177 0.16651 L 0.177 0.23578 L 0.125 0.23578 L 0.089 0.28374 L 0.052 0.23578 L 0 0.23578 L 0 0.16651 L -0.037 0.11856 L 0 0.06927 L 0 0 Z">
                                      <p:cBhvr>
                                        <p:cTn id="6" dur="5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248520" cy="6202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 rot="3223200">
            <a:off x="2420640" y="779400"/>
            <a:ext cx="1123920" cy="936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 rot="922200">
            <a:off x="5867280" y="13716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 rot="933000">
            <a:off x="7162560" y="2590920"/>
            <a:ext cx="144756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path" presetID="1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9 L 0.125 0 L 0.177 0 L 0.177 0.06927 L 0.213 0.11856 L 0.177 0.16651 L 0.177 0.23578 L 0.125 0.23578 L 0.089 0.28374 L 0.052 0.23578 L 0 0.23578 L 0 0.16651 L -0.037 0.11856 L 0 0.06927 L 0 0 Z">
                                      <p:cBhvr>
                                        <p:cTn id="14" dur="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248520" cy="6202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 rot="3223200">
            <a:off x="2420640" y="779400"/>
            <a:ext cx="1123920" cy="936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791320" y="1523880"/>
            <a:ext cx="2800080" cy="292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path" presetID="1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9 L 0.125 0 L 0.177 0 L 0.177 0.06927 L 0.213 0.11856 L 0.177 0.16651 L 0.177 0.23578 L 0.125 0.23578 L 0.089 0.28374 L 0.052 0.23578 L 0 0.23578 L 0 0.16651 L -0.037 0.11856 L 0 0.06927 L 0 0 Z">
                                      <p:cBhvr>
                                        <p:cTn id="37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xit" presetID="42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248520" cy="6202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 rot="3223200">
            <a:off x="2420640" y="779400"/>
            <a:ext cx="1123920" cy="936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276720" y="5638680"/>
            <a:ext cx="990360" cy="911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419720" y="5562720"/>
            <a:ext cx="976320" cy="99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1828800" y="5410080"/>
            <a:ext cx="1219320" cy="105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1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9 L 0.125 0 L 0.177 0 L 0.177 0.06927 L 0.213 0.11856 L 0.177 0.16651 L 0.177 0.23578 L 0.125 0.23578 L 0.089 0.28374 L 0.052 0.23578 L 0 0.23578 L 0 0.16651 L -0.037 0.11856 L 0 0.06927 L 0 0 Z">
                                      <p:cBhvr>
                                        <p:cTn id="58" dur="5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0.08819 -0.05324 C 0.1066 -0.06528 0.13438 -0.07199 0.16319 -0.07199 C 0.19601 -0.07199 0.2224 -0.06528 0.2408 -0.05324 L 0.32917 2.59259E-006 E">
                                      <p:cBhvr>
                                        <p:cTn id="67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13873E-006 L 0.10608 -0.05318 C 0.12847 -0.0652 0.16181 -0.07191 0.19653 -0.07191 C 0.23611 -0.07191 0.26771 -0.0652 0.29011 -0.05318 L 0.3967 -2.13873E-006 E">
                                      <p:cBhvr>
                                        <p:cTn id="73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1204 L 0.12691 -0.05023 C 0.15382 -0.06435 0.19357 -0.07199 0.23524 -0.07199 C 0.28264 -0.07199 0.32066 -0.06435 0.34757 -0.05023 L 0.475 0.01204 E">
                                      <p:cBhvr>
                                        <p:cTn id="79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248520" cy="6202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 rot="3223200">
            <a:off x="2420640" y="779400"/>
            <a:ext cx="112392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path" presetID="1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9 L 0.125 0 L 0.177 0 L 0.177 0.06927 L 0.213 0.11856 L 0.177 0.16651 L 0.177 0.23578 L 0.125 0.23578 L 0.089 0.28374 L 0.052 0.23578 L 0 0.23578 L 0 0.16651 L -0.037 0.11856 L 0 0.06927 L 0 0 Z">
                                      <p:cBhvr>
                                        <p:cTn id="95" dur="5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mily Dickins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rn: 183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ed: 188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rn in Amherst, Massachuset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y educated and poli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etic ch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d herself from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used to leave ho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ssed with wr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 poems published during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ickinson’s Poet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about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ote 1,775 po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t four to Thomas Higginson, a cri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dd punct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ven meter and rhy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00:33:51Z</dcterms:created>
  <dc:creator>Nicholas Dyszel</dc:creator>
  <dc:description/>
  <dc:language>en-US</dc:language>
  <cp:lastModifiedBy>PA Department of Education</cp:lastModifiedBy>
  <dcterms:modified xsi:type="dcterms:W3CDTF">2008-05-12T11:18:29Z</dcterms:modified>
  <cp:revision>9</cp:revision>
  <dc:subject/>
  <dc:title>I Heard a Fly Buzz – When I Died –</dc:title>
</cp:coreProperties>
</file>